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8F04-7961-4D52-B1DE-EE3FE4561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3E92-1C6B-4A5D-9034-DE31608C3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27FF-B4F1-4C71-9633-5C510CC2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0EE-E1DB-4425-B3C1-BCA814B98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4CCE-6077-44C4-A5B2-CF88BDD9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554D-388E-4397-8560-B19396C6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7F13-D95C-4974-B518-769875AE1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3A9-4AA6-4FA0-AA1D-F8C6E118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696-4EAC-4FAA-BAB5-64ED5C91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664-8E34-4D94-8B2F-2864E369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A8C-10F6-4134-897A-F3A22B2A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9C6-12C5-4582-B66C-D6E25606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E48-3FC2-4FCE-A8C7-E0DF2EB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651-8D59-4480-A9C2-9B79DC4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DA5-B98F-4DF1-8EDC-68F2B69A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100-C048-4415-A976-C98995F5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1DF-F560-4A67-8663-C9F825C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4F8-7C51-46E8-BCF9-8317250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D82-E076-447D-9CBB-A00096E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0B4-9176-404E-BA33-6AB73141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671-8B46-4508-AE32-D3DF366A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Chemical Equilibrium &amp; Ocean Acid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how chemical equilibrium explains how increasing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atmosphere and increasing global temperatures can affect the acidity of the ocea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quilibr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gs are changing in the system but there is an overall net balan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What is changing in this picture?  How can this container be in </a:t>
            </a:r>
            <a:r>
              <a:rPr b="1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Water is being added to and removed from the container.  If the amount added equals the amount removed, the container i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09588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image.wistatutor.com/content/chemical-equilibrium/dynamic-equilibrium.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dynamic-equilibrium.jpg"/>
          <p:cNvPicPr/>
          <p:nvPr/>
        </p:nvPicPr>
        <p:blipFill>
          <a:blip r:embed="rId1"/>
          <a:stretch/>
        </p:blipFill>
        <p:spPr>
          <a:xfrm>
            <a:off x="5105520" y="1600200"/>
            <a:ext cx="366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Matter moves to return a system to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are more molecules on one side of a barrier than the other.  The molecules will move until both sides have the same number of molecules, and therefore are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38080" y="65818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pload.wikimedia.org/wikipedia/commons/thumb/7/72/Diffusion.en.svg/800px-Diffusion.en.svg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800px-Diffusion.en.png"/>
          <p:cNvPicPr/>
          <p:nvPr/>
        </p:nvPicPr>
        <p:blipFill>
          <a:blip r:embed="rId1"/>
          <a:stretch/>
        </p:blipFill>
        <p:spPr>
          <a:xfrm>
            <a:off x="838080" y="2398680"/>
            <a:ext cx="7467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Dioxide in the Atmosphere &amp; Ocea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Dioxide (CO2) will dissolve in ocean water to reach equilibrium with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914400" y="65818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bc.co.uk/blogs/climatechange/_45552631_ocean_acidification02_466i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oceanacidification.gif"/>
          <p:cNvPicPr/>
          <p:nvPr/>
        </p:nvPicPr>
        <p:blipFill>
          <a:blip r:embed="rId1"/>
          <a:stretch/>
        </p:blipFill>
        <p:spPr>
          <a:xfrm>
            <a:off x="914400" y="1600200"/>
            <a:ext cx="7381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Ocean Acidific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water allows for more dissolved CO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914400" y="65818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bc.co.uk/blogs/climatechange/_45552631_ocean_acidification02_466i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3" descr="oceanacidification.gif"/>
          <p:cNvPicPr/>
          <p:nvPr/>
        </p:nvPicPr>
        <p:blipFill>
          <a:blip r:embed="rId1"/>
          <a:stretch/>
        </p:blipFill>
        <p:spPr>
          <a:xfrm>
            <a:off x="914400" y="1763640"/>
            <a:ext cx="7381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groups, label the diagram with the causal principle responsible for the chemical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14400" y="65818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bc.co.uk/blogs/climatechange/_45552631_ocean_acidification02_466i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3" descr="oceanacidification.gif"/>
          <p:cNvPicPr/>
          <p:nvPr/>
        </p:nvPicPr>
        <p:blipFill>
          <a:blip r:embed="rId1"/>
          <a:stretch/>
        </p:blipFill>
        <p:spPr>
          <a:xfrm>
            <a:off x="914400" y="1763640"/>
            <a:ext cx="7381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hemical Energy &amp; Ocean Acidific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6:14:39Z</dcterms:created>
  <dc:creator>Julie Libarkin</dc:creator>
  <dc:description/>
  <dc:language>en-US</dc:language>
  <cp:lastModifiedBy>Nicole LaDue</cp:lastModifiedBy>
  <dcterms:modified xsi:type="dcterms:W3CDTF">2010-12-17T16:59:34Z</dcterms:modified>
  <cp:revision>324</cp:revision>
  <dc:subject/>
  <dc:title>PowerPoint Presentation</dc:title>
</cp:coreProperties>
</file>